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5664-7FA8-4592-928B-BDB3AC93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824B-91D8-4D94-B1B4-8C3E6AD9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98D83-C9D3-4664-ADC6-AF63B398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AD7AB-9BDC-473F-91C8-EC131D86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85B34-032B-404A-8FA1-3A56C56D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4B8AE-DA9D-4711-A2F1-B3B4F58E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E9707B-3D0F-43AE-BFD7-DBD50CDC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D89A8-1A15-4011-B558-78358033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47EC0E-FEC3-4300-B2F0-545765EE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5618F-FCBC-4A78-BACA-AE2573D78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61961-6C1E-49DE-A878-2CF4A42B2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3713B-9F55-458E-B415-3C0CCD46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2E2B-5FD3-43D7-BB82-13A1108CA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B39F62-5C94-4224-B918-445FEF19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23D68E-CC15-4368-956B-90A62560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254C5A-7451-46AC-9FB0-58FD2BDE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8D5B1-135F-490F-A941-69048FD8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FF0766-9049-4A3C-BD21-36CEF174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FC0554-7503-4668-93D8-D4A7E392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35956-D2B2-48BC-BA3D-18E1A42F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67A1B-0138-42BD-A9C3-095DEEE5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D47A0-8F71-46D3-B1DC-F0B54666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1DD25B-78F1-401F-970B-B1DA94AFC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EE1D-62C8-4353-9CF3-7861480AA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ABCF6-0AC3-473F-A5E5-E5D50B319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3BA32-031B-41D1-8642-C4A97E611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24152-9F26-4CAF-A20E-4CB0F85A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02626-E96C-492F-BD9C-13EAE9D5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1354A-A3BA-492C-BC1C-E32FEFBE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87E88-B6F6-4FD1-9652-85DB17D2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B7DFA-4C89-4D8D-A838-ADC5A954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AFD74-8470-4C24-A722-993C7B70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83353-139D-49B9-9314-9AEAD510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B1306-E25C-408E-8D78-5DDB42C4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636F-9BC5-4ABC-AFD6-03BBA487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E3E93-BB43-4F2F-A8F9-CC13E76D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A7855-EB79-4D04-8890-2D6653420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A788C-EC47-43C6-A673-BEA55B61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ADBB2B-EDA5-46F1-9B4F-D382F5573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0140E0-7429-4DED-AC1A-1FA98F8E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CEACB1-8BEC-4035-93A4-365CDC1A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AD3C7-543A-4A66-9723-BCC61A9D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F69118-AD91-474B-9EFE-59ABBD3E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F5C66E-C916-43FB-BF0C-71FB44E2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E246D9-C656-41A3-B475-ABFC54FC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9377-6FEC-475E-A7EE-08AEAE23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AB433D-CF48-49E1-970F-C8715521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4283B0-A38A-4E42-98C4-4D4FE4FE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92AC9E-7AAC-49E1-A9FD-67A81E52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43EBB-A79B-40C5-BEE2-7895F7C3B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F83BCC-2BD2-4C43-8BEC-DD5627448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1E50D6-BDE8-41CC-9A8C-AADEC6323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4D7500-E62F-4B3E-8D45-7B814B0C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AE6B77-03F6-405C-8AD9-6758EE02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DF871A-7DF4-41C0-AC41-1A324E50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9EF8DF-020F-41C6-80B0-8483A25A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668B-92E8-4E92-B0FF-B54A2FDE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AB98E2-D052-4406-9DE0-7F0640D1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579EDC-2506-4863-9424-8AFED6E4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EA9403-C8C3-497C-9308-C472EF4C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1BBED6-CB3D-4D1E-98F3-8CE94831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D1470E-1932-40B7-8CAE-F9CA28F0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5F1B16-D34A-45E8-924A-52C7931ED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5DBB2A-2AA6-4F5C-AAD5-17A85B7E1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A51FDB-22BA-4D3D-9EA7-71D018833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D4933B-2990-4292-9821-F893D7DC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4687FC-AE56-43A2-B86F-07644A16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4B3C-3D1A-4623-BB9E-270B508E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7F0391-96C3-44BD-B8A8-91C6F18B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180DB7-2676-44B5-B650-1149E659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B8ADCE-C1A9-4B7F-9829-9F371537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32A1EC-8FE6-43A5-8FF8-20551297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3A3251-2B63-4860-BA5A-F7D36E54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B4F16D-1926-4F67-997B-B06EF4A6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05C67B-27F0-4BB8-8D3E-8C4571ED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D08846-A111-4A6E-826F-7785B3EF7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1870D0-6F4E-400D-A309-9BD956B31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E0B5E1-711A-423A-BB36-2027BB77F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CA1F-0AE5-470B-8D72-E6B4FD42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36CC6E-F5E0-4E27-8135-3E4E3046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BD8C49-0B2A-45CF-9E87-ED446A29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4EE408-CB41-436D-9B8B-D670A6AE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CA11D8-22DA-47A2-B998-B9B23AF3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2CC802-807B-4DB9-997B-B8C9F7A8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4385A8-4417-4025-9913-3031D307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58B6AE-648E-46A4-960B-3BC79597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6FF9BD-C84C-4CCC-87B4-A3388BC8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EB360B-A4B7-4222-8C8C-581AA156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5F71CC-8FEE-4F9B-9503-DCE84EE9F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3CE7-BCB6-4AFB-A03D-31234AB4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DEE378-334F-4BC1-BB3D-98BCD6DC9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D03DF9-0FCA-4179-990B-98A5D442C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9FA2FB-FBE2-4542-9B5A-247EBE8A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31882A-ABDB-4C1C-B488-A38852A5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028EFA-9A19-4C1F-9019-57C1504B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9D1BFC-765E-46D1-A02C-9CC36D8C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A78A8F-34D8-456C-BA45-829657DD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7BFA2B-19F4-42BC-B379-94A75D24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ED7412-52B7-4B76-8E92-330E1974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AA0C22-87EB-4F03-94AB-B9181A0A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10A1-1D2C-4CC0-BED1-0F7CD691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4C1E74-EF4A-4E1B-A210-68DD07DF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B74F4E-B5E9-4582-892B-FC59BB74F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5E74D2-76E3-4A10-8705-1127D58E8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EDC55E-760D-4D49-99A8-9FD6495BA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43317F-F38B-4276-9FAB-5339E62A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C91B36-9E57-49F2-B675-1343050A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A53263-7551-40CB-9C7B-1563BB8A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B0C31F-C16F-4770-AFE1-B9160C1F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34612C-A299-4C94-8054-98505D6D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D75490-F072-47B6-B256-71EC5156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923C-FC42-4AF4-9F61-CCE168CB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82E9-5D50-4888-B40E-1D155FCB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1F4A91-EF7C-4B16-A3DD-CB1033EE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D9ECDD-7DAE-477B-AAF4-FAFF09F9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2FC863-608B-4E8B-8B5E-81D69334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B23DF1-A9FD-458E-9B57-D8A32489F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540087-4CB6-4F6C-B142-27DF2B2A5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B82707-AC20-4983-871B-DBF24558E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80FB82-8784-4967-AAD5-6270CD56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219BE2-FBA9-4FCA-A16D-07C6D1EA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97074C-931F-4F08-A919-FDF70067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F5C59A-5CC0-477C-88DD-C4ACBA54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4523-5490-4037-AD65-2427555A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08E13B-CCE5-46D0-B609-9A6BB9BD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8236D4-9D27-4539-B69F-4E25073E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053ADD-E60E-40A6-A459-84923884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87D254-575A-40B1-8EA0-F7A63B0E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87D2C8-FD8A-496B-99DA-0B7F6408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18AD3C-00A2-4B57-8146-211B50631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FD8C40-D23A-42EC-9F20-D8C9645C0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E32C94-476B-49FF-96E1-B4B75A4C2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65143D-71DE-47CB-BB5C-1EAB74AD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3B9CF1-78A9-4DD7-BB91-7A3AEB0C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2C06-4942-4C1D-9976-241CC059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4A2CDD-88E3-4BD6-BCF1-E8A6728A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83A812-66AF-48F8-B5E2-41AA7893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5109CE-3844-4CFF-A8CB-E634EE77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B6111D-2CA3-47C9-8845-0F0F8565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66E8DF-A736-4CAE-A8A3-058671DB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5ABD2E-25F1-4416-A470-6E019ABB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E4BF6A-C681-4F72-B094-0224ADE3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D7F260-E878-4A2B-B140-E3F0C2B80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27ABB7-1F7C-422F-93AE-08D83AA11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FBAE25-992D-4377-9C52-688CC3CF7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07FE-EB0E-461B-A094-1D75B5F85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01BF18-5F81-4768-B099-48ABB267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7F1F13-B9FA-4DF8-803C-394AA981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3533C8-44A4-4627-9182-B2590758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A6D175-F406-47BB-8EDB-017E13F1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3FDD72-E5C1-44D7-A7AC-88EB4F04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9045AC-15D5-4EDB-8075-578EAFDD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99675F-7AAD-4CD3-BBE9-9EF4C5AF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4B9F11-0E0A-4FA5-8517-79384546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E17437-C8C9-4151-9092-A82E3011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5FA168-F610-4909-B8B3-5B324F596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8A3E-5174-474F-A93A-60C386DD2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B747CC-4784-4086-A0D9-C2FAB2D19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242168-C876-4A29-A2FD-90FED8822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0BBF70-9134-454E-94B1-C96D5D7B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7E6349-D2A1-4F48-A356-F878DCA7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D94279-AB50-44E7-B247-6579BF43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6060EF-13A3-4A10-AFCA-6B8DD5AF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1350BF-93E9-459A-8B21-B32BB39F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C4D261-3400-4DF5-9A62-737D1D7D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179DF1-BB3E-45A7-AD5D-5A588BAF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45AD39-313C-4ED7-BBEA-8579EBC0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6AB24-5DE8-42E8-8DA6-2301DDFD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8EA4E0-B730-400D-A47C-D2E6827A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B45A80-6EFD-461F-A42E-C887AC757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F4E721-B239-48EB-BFE8-78659DEF1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1AC14C-6B3C-4F64-B1F9-B2ECB362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C9F813-EA74-4EB0-B594-CC7B0AF5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C0E228-5D32-4986-8D00-FECE038E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0867EE-152C-488A-9B40-1EA6CE37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58FEDC-6816-490D-8D4A-4799B09A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DB8950-199E-41D8-99B3-F838F7C5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B9C3C1-FE97-4C1F-9571-A427D2C7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B3D86-8EC2-4A95-B632-224AACFE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86BC80-75B6-428A-B0BE-38302070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5F0956-8BED-4C9F-8A18-65F34A19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03F034-2F8C-4060-B1B7-8AB72D55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4C5303-185B-4EB2-B45C-B52ECBF6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B204A7-4A4A-4377-94E8-6BF3BC516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B51AB1-1C94-432A-9501-DD7346681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2AA425-B283-4DDE-A763-3EC456DC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958659-C1DF-47AA-BB6E-E634E578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2FA99C-F7BA-4514-A663-F1A92C38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C35BEB-A78F-4495-BA89-02EC498D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9C425-638E-4C8C-8B4E-6283E39A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56C5D7-2BE6-42F0-AB42-AF5A86A9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024746-A054-4E95-8B99-86A20043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83618C-376C-4FE6-B7D3-57E3D2DC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C9C4B2-DE9E-43FE-9E3C-D7B4C1E6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10D191-B17A-445F-91E9-C0745853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14318C-9B09-42F5-B95B-B87D811F6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36CA65-B06B-4334-83E6-9939FD1A0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56DF0-7DD1-447E-97C3-575CE7AF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9B835-9470-4D99-B5D4-AEBE7FD9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474C-E631-4E7B-B7D6-14129112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A4482-E0C8-47B0-89B0-3A586B7E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86AB9-2DC3-410C-9139-8D8F990D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6EF8F-37F5-4BD2-AC42-B3C10330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25802-652B-4BFD-8125-9B1739CF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F3D38-DC93-4994-97A0-EBFE9D7D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2C97F-F052-4D8D-BB98-6C72C1700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36163-0B2E-4E74-962C-EB5DD95E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5EAC9-742D-411A-9E1E-834FD1814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8BEBC-6E91-4AF5-BA69-5E3751E1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A051A-A30E-44B6-9264-52DBE710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D08C-5855-4FD8-8483-99ABAF84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4EB08-A41C-4D8C-A125-974EA069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9A206-2A18-42F0-AB38-D4205253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66F08-C75F-4DB6-AAFF-CB2E42A2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BB02D-A371-4952-BCA9-CFC8556C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10DA3-BC67-466E-8205-8A09BC80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4C25C-5A46-4612-8265-464C300B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EF5E7-2C00-47FA-A79E-0A828DF5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93371-255D-4FE0-BE2B-086125B3C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C8BC4-48EF-45A4-AF4D-29ECF3779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00AC8-A532-4E14-A75E-18DAA82F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B0C8-FC55-422D-8E7B-1F5F9944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9C96D-E940-4D2C-8C28-2DA81868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86C71-4BD8-4D96-A92E-BCFD1FD5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B6088-97CA-4316-A425-CAB611A5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9FE89-709C-4A34-B5FC-6FDD8E8E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2C526-934B-427E-BF2A-7FEF7978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8FA31-465B-460C-8C59-010A0961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B8E8E-E977-4BCF-8110-F7CD3E3F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6BC66-18A7-4CDE-A66C-26FF136A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D1026-52F9-4ABD-9F26-833EC6B0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EC96F-42B1-442D-85B5-D2629E3A3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FF64-3FE6-4708-8178-C5B0AA64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16802-A782-49F1-9714-C6FBCA91F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5DA57-E46E-425E-8847-51715B4C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749FF-371E-4B8D-B1AD-F17F2A83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A5141-ED9F-4A22-B833-5D7EC595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60046-F74C-405D-8994-1D3E80EE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BD9B7-154F-4537-9BAC-718E9342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B5EB3-838E-4E37-B84D-C9892A28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BA2A9-1A04-4BE0-AAAE-73E43EC1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AC8A4-B6DF-467F-9B4C-BDDCA11E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0AA2C-7302-4452-98B2-602C0960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DBEE-2BB1-457E-9994-C4119F84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DE6B3-6E3A-41D5-95AB-CEBC881A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45D32-EBB3-40FF-A0E7-0186B00B1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BAB16-DD8C-467D-A4DB-3B8CBF51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5B36E-8543-4EB1-B2FB-C6B642902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1AD3E-F11F-48D9-A674-CD22DBA1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936E6-AD75-4052-B09E-1B867EF3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1EA11-5F47-4AEE-9977-3439215F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0B570-ADF5-49FF-9DA8-65B22161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BFD14-BF00-465C-86F6-FBE1F1FA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7274E-1125-49A6-8B39-7A13841A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97E2-B9D2-4276-A80B-4BA5CD1B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0EB63-5907-460E-85B2-814160C3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CDC32-316F-4085-B87D-CC1A0018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EB0FC-CF3A-482A-A6F0-AF23D890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3FDFB-03A5-4049-88CA-FB149F253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BB44B-E7A9-410F-93D2-A0A1D2934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F0CA9-199A-4F1F-87AF-EB6AF22ED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2A13C-CB2B-4E8C-AD68-749700FC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BDB3F-72C9-4141-A824-E63D6F11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947C3-5174-4E12-9740-E0E80DD2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83EAA-12CB-4850-BBFA-1A8791EF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6FA4-3EAE-41AB-BE6B-4A0EDA85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6359E-3999-44B1-91A7-7D9288CC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CA622-3F2B-45AA-9889-4690D8EE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8E9DA-47B8-4548-BA85-6B83C49C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A1395-9A6D-4CAC-B6CD-AFA5B644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AEC7E-49EE-45F8-93C8-49FEBBFC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58538-D987-4462-97D6-68EB71D7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7443D-81F0-47A9-BFCA-5012E43DD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A1A21-8992-4241-AA5C-120E0B134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07749-EA96-4373-B948-F3EDFD88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860B49-3D8C-4B90-B9C0-652B38BA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93B9-9FC3-479A-86C2-C7D70A9944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C9D9-1754-4825-B845-D88F6907C6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993B-1CC5-4813-BB76-69BC064DAE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2526-98A3-42C2-951A-A981AE5A5E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E255-5E59-468B-89ED-7E8B6329D9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F390-42A4-4362-84A5-A5DBD014DD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963C-4004-4D16-978B-40E9E9306A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FDCE-E28D-4459-BE95-097CDC5FA5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85AB-4F67-4714-BA8C-AAF2C15FAF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6720-B928-4514-8A9A-51B522D6E5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3BE2-3EC6-4ED1-B185-7603C9CF33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EC0C-3B2B-4F74-B04B-6512211A8D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1A3C-A1AA-492E-B591-9753121579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5095-E258-4E4E-94F1-59876FAB90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DCDD-A83F-4226-8041-6B5FA3EF00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CEA5-D912-4E4F-88FB-8B26153105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CDE3-216C-4356-AC08-D00616839F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0A94-1CB8-4369-B5D5-CD1959E4D3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1551-AB92-4637-BB79-C952F838C3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CAC4-423B-4375-88D5-E79AC277BD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026F-5184-4923-8666-F9F24FEEDB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D754-0078-4371-B85C-EADBAC53818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C3F0-7C1B-4F20-9DFA-0833719453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77DE-EF91-43EE-AF94-C6195C3C49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D8CC-18B7-43CD-B483-DC45C181C4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7BEC-6571-4586-9750-04E7A886C3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018B-CDFA-4A40-A826-CF6B9C4A04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6B00-EAD3-4C16-BE5E-64C9F54D1D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5C8F-EE44-4645-A6D3-B45CDC93C1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F99A-8F4B-4020-9FF2-0F84010E5F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F9E4-C9CE-4D4A-8CE3-532E711088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D961-7ADB-4F6A-9B2E-FFBA4F872D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7131-5D94-4667-9E7E-E8BA466898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E1C4-DE8C-4B67-939F-A37CE7B7FDE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5241-8F3B-4320-A7F6-8D2CE04589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2190-A43F-46E2-ABE1-7AE23D68DA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0E55-20F7-4975-8821-4BA00757FB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A30C-2653-4ECD-BE0C-C23AAD51DD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2C27-75CF-462F-A837-DD10E7BC1F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AE1B-8F3C-4D47-B3A9-EEA80CB5E1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6A5F-BEC8-4F6D-8B3D-9BC887F506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56CF-6ABB-4851-9C10-2A09033BEF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2657520" y="2847960"/>
            <a:ext cx="38289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图片 1" descr=""/>
          <p:cNvPicPr/>
          <p:nvPr/>
        </p:nvPicPr>
        <p:blipFill>
          <a:blip r:embed="rId1"/>
          <a:stretch/>
        </p:blipFill>
        <p:spPr>
          <a:xfrm>
            <a:off x="4519440" y="3400560"/>
            <a:ext cx="105120" cy="56880"/>
          </a:xfrm>
          <a:prstGeom prst="rect">
            <a:avLst/>
          </a:prstGeom>
          <a:ln w="0">
            <a:noFill/>
          </a:ln>
        </p:spPr>
      </p:pic>
      <p:pic>
        <p:nvPicPr>
          <p:cNvPr id="1132" name="图片 2" descr=""/>
          <p:cNvPicPr/>
          <p:nvPr/>
        </p:nvPicPr>
        <p:blipFill>
          <a:blip r:embed="rId2"/>
          <a:stretch/>
        </p:blipFill>
        <p:spPr>
          <a:xfrm>
            <a:off x="181080" y="258840"/>
            <a:ext cx="87818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3" name="图片 1" descr=""/>
          <p:cNvPicPr/>
          <p:nvPr/>
        </p:nvPicPr>
        <p:blipFill>
          <a:blip r:embed="rId1"/>
          <a:stretch/>
        </p:blipFill>
        <p:spPr>
          <a:xfrm>
            <a:off x="281160" y="730080"/>
            <a:ext cx="8732520" cy="3722760"/>
          </a:xfrm>
          <a:prstGeom prst="rect">
            <a:avLst/>
          </a:prstGeom>
          <a:ln w="0">
            <a:noFill/>
          </a:ln>
        </p:spPr>
      </p:pic>
      <p:pic>
        <p:nvPicPr>
          <p:cNvPr id="1134" name="图片 2" descr=""/>
          <p:cNvPicPr/>
          <p:nvPr/>
        </p:nvPicPr>
        <p:blipFill>
          <a:blip r:embed="rId2"/>
          <a:stretch/>
        </p:blipFill>
        <p:spPr>
          <a:xfrm>
            <a:off x="281160" y="4911840"/>
            <a:ext cx="8180280" cy="152388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3"/>
          <a:stretch/>
        </p:blipFill>
        <p:spPr>
          <a:xfrm>
            <a:off x="684360" y="4941720"/>
            <a:ext cx="5029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6" name="图片 1" descr=""/>
          <p:cNvPicPr/>
          <p:nvPr/>
        </p:nvPicPr>
        <p:blipFill>
          <a:blip r:embed="rId1"/>
          <a:stretch/>
        </p:blipFill>
        <p:spPr>
          <a:xfrm>
            <a:off x="290520" y="1776240"/>
            <a:ext cx="8561520" cy="330552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502920" cy="40644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3"/>
          <a:stretch/>
        </p:blipFill>
        <p:spPr>
          <a:xfrm>
            <a:off x="684360" y="3500280"/>
            <a:ext cx="5029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图片 1" descr=""/>
          <p:cNvPicPr/>
          <p:nvPr/>
        </p:nvPicPr>
        <p:blipFill>
          <a:blip r:embed="rId1"/>
          <a:stretch/>
        </p:blipFill>
        <p:spPr>
          <a:xfrm>
            <a:off x="204840" y="1847880"/>
            <a:ext cx="8732880" cy="31622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5032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1" name="图片 1" descr=""/>
          <p:cNvPicPr/>
          <p:nvPr/>
        </p:nvPicPr>
        <p:blipFill>
          <a:blip r:embed="rId1"/>
          <a:stretch/>
        </p:blipFill>
        <p:spPr>
          <a:xfrm>
            <a:off x="209520" y="776160"/>
            <a:ext cx="8724960" cy="59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2" name="图片 1" descr=""/>
          <p:cNvPicPr/>
          <p:nvPr/>
        </p:nvPicPr>
        <p:blipFill>
          <a:blip r:embed="rId1"/>
          <a:stretch/>
        </p:blipFill>
        <p:spPr>
          <a:xfrm>
            <a:off x="228600" y="723960"/>
            <a:ext cx="86868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图片 1" descr=""/>
          <p:cNvPicPr/>
          <p:nvPr/>
        </p:nvPicPr>
        <p:blipFill>
          <a:blip r:embed="rId1"/>
          <a:stretch/>
        </p:blipFill>
        <p:spPr>
          <a:xfrm>
            <a:off x="285840" y="1438200"/>
            <a:ext cx="8572320" cy="398160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" descr=""/>
          <p:cNvPicPr/>
          <p:nvPr/>
        </p:nvPicPr>
        <p:blipFill>
          <a:blip r:embed="rId2"/>
          <a:stretch/>
        </p:blipFill>
        <p:spPr>
          <a:xfrm>
            <a:off x="971640" y="4869000"/>
            <a:ext cx="503280" cy="40644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" descr=""/>
          <p:cNvPicPr/>
          <p:nvPr/>
        </p:nvPicPr>
        <p:blipFill>
          <a:blip r:embed="rId3"/>
          <a:stretch/>
        </p:blipFill>
        <p:spPr>
          <a:xfrm>
            <a:off x="2771640" y="4869000"/>
            <a:ext cx="503280" cy="40644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" descr=""/>
          <p:cNvPicPr/>
          <p:nvPr/>
        </p:nvPicPr>
        <p:blipFill>
          <a:blip r:embed="rId4"/>
          <a:stretch/>
        </p:blipFill>
        <p:spPr>
          <a:xfrm>
            <a:off x="4427640" y="4869000"/>
            <a:ext cx="503280" cy="40644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" descr=""/>
          <p:cNvPicPr/>
          <p:nvPr/>
        </p:nvPicPr>
        <p:blipFill>
          <a:blip r:embed="rId5"/>
          <a:stretch/>
        </p:blipFill>
        <p:spPr>
          <a:xfrm>
            <a:off x="6227640" y="4869000"/>
            <a:ext cx="503280" cy="40644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" descr=""/>
          <p:cNvPicPr/>
          <p:nvPr/>
        </p:nvPicPr>
        <p:blipFill>
          <a:blip r:embed="rId6"/>
          <a:stretch/>
        </p:blipFill>
        <p:spPr>
          <a:xfrm>
            <a:off x="7956720" y="4869000"/>
            <a:ext cx="5029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9" name="图片 1" descr=""/>
          <p:cNvPicPr/>
          <p:nvPr/>
        </p:nvPicPr>
        <p:blipFill>
          <a:blip r:embed="rId1"/>
          <a:stretch/>
        </p:blipFill>
        <p:spPr>
          <a:xfrm>
            <a:off x="214200" y="806400"/>
            <a:ext cx="8713800" cy="1562040"/>
          </a:xfrm>
          <a:prstGeom prst="rect">
            <a:avLst/>
          </a:prstGeom>
          <a:ln w="0">
            <a:noFill/>
          </a:ln>
        </p:spPr>
      </p:pic>
      <p:pic>
        <p:nvPicPr>
          <p:cNvPr id="1150" name="图片 2" descr=""/>
          <p:cNvPicPr/>
          <p:nvPr/>
        </p:nvPicPr>
        <p:blipFill>
          <a:blip r:embed="rId2"/>
          <a:stretch/>
        </p:blipFill>
        <p:spPr>
          <a:xfrm>
            <a:off x="176040" y="2413080"/>
            <a:ext cx="8790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1" name="图片 1" descr=""/>
          <p:cNvPicPr/>
          <p:nvPr/>
        </p:nvPicPr>
        <p:blipFill>
          <a:blip r:embed="rId1"/>
          <a:stretch/>
        </p:blipFill>
        <p:spPr>
          <a:xfrm>
            <a:off x="142920" y="1276200"/>
            <a:ext cx="8858160" cy="43056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1" descr=""/>
          <p:cNvPicPr/>
          <p:nvPr/>
        </p:nvPicPr>
        <p:blipFill>
          <a:blip r:embed="rId2"/>
          <a:stretch/>
        </p:blipFill>
        <p:spPr>
          <a:xfrm>
            <a:off x="1476360" y="5056200"/>
            <a:ext cx="1008000" cy="40644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1" descr=""/>
          <p:cNvPicPr/>
          <p:nvPr/>
        </p:nvPicPr>
        <p:blipFill>
          <a:blip r:embed="rId3"/>
          <a:stretch/>
        </p:blipFill>
        <p:spPr>
          <a:xfrm>
            <a:off x="4211640" y="5056200"/>
            <a:ext cx="100800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4" name="图片 1" descr=""/>
          <p:cNvPicPr/>
          <p:nvPr/>
        </p:nvPicPr>
        <p:blipFill>
          <a:blip r:embed="rId1"/>
          <a:stretch/>
        </p:blipFill>
        <p:spPr>
          <a:xfrm>
            <a:off x="250920" y="801720"/>
            <a:ext cx="8780400" cy="592308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1" descr=""/>
          <p:cNvPicPr/>
          <p:nvPr/>
        </p:nvPicPr>
        <p:blipFill>
          <a:blip r:embed="rId2"/>
          <a:stretch/>
        </p:blipFill>
        <p:spPr>
          <a:xfrm>
            <a:off x="1042920" y="1901880"/>
            <a:ext cx="3600360" cy="40644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1" descr=""/>
          <p:cNvPicPr/>
          <p:nvPr/>
        </p:nvPicPr>
        <p:blipFill>
          <a:blip r:embed="rId3"/>
          <a:stretch/>
        </p:blipFill>
        <p:spPr>
          <a:xfrm>
            <a:off x="971640" y="2995560"/>
            <a:ext cx="5400720" cy="40644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1" descr=""/>
          <p:cNvPicPr/>
          <p:nvPr/>
        </p:nvPicPr>
        <p:blipFill>
          <a:blip r:embed="rId4"/>
          <a:stretch/>
        </p:blipFill>
        <p:spPr>
          <a:xfrm>
            <a:off x="900000" y="4062240"/>
            <a:ext cx="8064720" cy="406440"/>
          </a:xfrm>
          <a:prstGeom prst="rect">
            <a:avLst/>
          </a:prstGeom>
          <a:ln w="0">
            <a:noFill/>
          </a:ln>
        </p:spPr>
      </p:pic>
      <p:pic>
        <p:nvPicPr>
          <p:cNvPr id="1158" name="Picture 1" descr=""/>
          <p:cNvPicPr/>
          <p:nvPr/>
        </p:nvPicPr>
        <p:blipFill>
          <a:blip r:embed="rId5"/>
          <a:stretch/>
        </p:blipFill>
        <p:spPr>
          <a:xfrm>
            <a:off x="611280" y="4610160"/>
            <a:ext cx="8064360" cy="406440"/>
          </a:xfrm>
          <a:prstGeom prst="rect">
            <a:avLst/>
          </a:prstGeom>
          <a:ln w="0">
            <a:noFill/>
          </a:ln>
        </p:spPr>
      </p:pic>
      <p:pic>
        <p:nvPicPr>
          <p:cNvPr id="1159" name="Picture 1" descr=""/>
          <p:cNvPicPr/>
          <p:nvPr/>
        </p:nvPicPr>
        <p:blipFill>
          <a:blip r:embed="rId6"/>
          <a:stretch/>
        </p:blipFill>
        <p:spPr>
          <a:xfrm>
            <a:off x="1619280" y="5719680"/>
            <a:ext cx="31687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209520" y="838080"/>
            <a:ext cx="87249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0" name="图片 1" descr=""/>
          <p:cNvPicPr/>
          <p:nvPr/>
        </p:nvPicPr>
        <p:blipFill>
          <a:blip r:embed="rId1"/>
          <a:stretch/>
        </p:blipFill>
        <p:spPr>
          <a:xfrm>
            <a:off x="120600" y="879480"/>
            <a:ext cx="8904240" cy="5448240"/>
          </a:xfrm>
          <a:prstGeom prst="rect">
            <a:avLst/>
          </a:prstGeom>
          <a:ln w="0">
            <a:noFill/>
          </a:ln>
        </p:spPr>
      </p:pic>
      <p:pic>
        <p:nvPicPr>
          <p:cNvPr id="1161" name="Picture 1" descr=""/>
          <p:cNvPicPr/>
          <p:nvPr/>
        </p:nvPicPr>
        <p:blipFill>
          <a:blip r:embed="rId2"/>
          <a:stretch/>
        </p:blipFill>
        <p:spPr>
          <a:xfrm>
            <a:off x="2771640" y="2521080"/>
            <a:ext cx="1368720" cy="406440"/>
          </a:xfrm>
          <a:prstGeom prst="rect">
            <a:avLst/>
          </a:prstGeom>
          <a:ln w="0">
            <a:noFill/>
          </a:ln>
        </p:spPr>
      </p:pic>
      <p:pic>
        <p:nvPicPr>
          <p:cNvPr id="1162" name="Picture 1" descr=""/>
          <p:cNvPicPr/>
          <p:nvPr/>
        </p:nvPicPr>
        <p:blipFill>
          <a:blip r:embed="rId3"/>
          <a:stretch/>
        </p:blipFill>
        <p:spPr>
          <a:xfrm>
            <a:off x="3102120" y="3040200"/>
            <a:ext cx="1368360" cy="406440"/>
          </a:xfrm>
          <a:prstGeom prst="rect">
            <a:avLst/>
          </a:prstGeom>
          <a:ln w="0">
            <a:noFill/>
          </a:ln>
        </p:spPr>
      </p:pic>
      <p:pic>
        <p:nvPicPr>
          <p:cNvPr id="1163" name="Picture 1" descr=""/>
          <p:cNvPicPr/>
          <p:nvPr/>
        </p:nvPicPr>
        <p:blipFill>
          <a:blip r:embed="rId4"/>
          <a:stretch/>
        </p:blipFill>
        <p:spPr>
          <a:xfrm>
            <a:off x="6688080" y="3630600"/>
            <a:ext cx="1368360" cy="406440"/>
          </a:xfrm>
          <a:prstGeom prst="rect">
            <a:avLst/>
          </a:prstGeom>
          <a:ln w="0">
            <a:noFill/>
          </a:ln>
        </p:spPr>
      </p:pic>
      <p:pic>
        <p:nvPicPr>
          <p:cNvPr id="1164" name="Picture 1" descr=""/>
          <p:cNvPicPr/>
          <p:nvPr/>
        </p:nvPicPr>
        <p:blipFill>
          <a:blip r:embed="rId5"/>
          <a:stretch/>
        </p:blipFill>
        <p:spPr>
          <a:xfrm>
            <a:off x="3276720" y="4149720"/>
            <a:ext cx="1368360" cy="406440"/>
          </a:xfrm>
          <a:prstGeom prst="rect">
            <a:avLst/>
          </a:prstGeom>
          <a:ln w="0">
            <a:noFill/>
          </a:ln>
        </p:spPr>
      </p:pic>
      <p:pic>
        <p:nvPicPr>
          <p:cNvPr id="1165" name="Picture 1" descr=""/>
          <p:cNvPicPr/>
          <p:nvPr/>
        </p:nvPicPr>
        <p:blipFill>
          <a:blip r:embed="rId6"/>
          <a:stretch/>
        </p:blipFill>
        <p:spPr>
          <a:xfrm>
            <a:off x="2987640" y="4710240"/>
            <a:ext cx="1368360" cy="406440"/>
          </a:xfrm>
          <a:prstGeom prst="rect">
            <a:avLst/>
          </a:prstGeom>
          <a:ln w="0">
            <a:noFill/>
          </a:ln>
        </p:spPr>
      </p:pic>
      <p:pic>
        <p:nvPicPr>
          <p:cNvPr id="1166" name="Picture 1" descr=""/>
          <p:cNvPicPr/>
          <p:nvPr/>
        </p:nvPicPr>
        <p:blipFill>
          <a:blip r:embed="rId7"/>
          <a:stretch/>
        </p:blipFill>
        <p:spPr>
          <a:xfrm>
            <a:off x="1044720" y="5243400"/>
            <a:ext cx="136836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7" name="图片 1" descr=""/>
          <p:cNvPicPr/>
          <p:nvPr/>
        </p:nvPicPr>
        <p:blipFill>
          <a:blip r:embed="rId1"/>
          <a:stretch/>
        </p:blipFill>
        <p:spPr>
          <a:xfrm>
            <a:off x="171360" y="971640"/>
            <a:ext cx="8801280" cy="5371920"/>
          </a:xfrm>
          <a:prstGeom prst="rect">
            <a:avLst/>
          </a:prstGeom>
          <a:ln w="0">
            <a:noFill/>
          </a:ln>
        </p:spPr>
      </p:pic>
      <p:pic>
        <p:nvPicPr>
          <p:cNvPr id="1168" name="Picture 1" descr=""/>
          <p:cNvPicPr/>
          <p:nvPr/>
        </p:nvPicPr>
        <p:blipFill>
          <a:blip r:embed="rId2"/>
          <a:stretch/>
        </p:blipFill>
        <p:spPr>
          <a:xfrm>
            <a:off x="6948360" y="1512720"/>
            <a:ext cx="863640" cy="40644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1" descr=""/>
          <p:cNvPicPr/>
          <p:nvPr/>
        </p:nvPicPr>
        <p:blipFill>
          <a:blip r:embed="rId3"/>
          <a:stretch/>
        </p:blipFill>
        <p:spPr>
          <a:xfrm>
            <a:off x="900000" y="2593800"/>
            <a:ext cx="863640" cy="40644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1" descr=""/>
          <p:cNvPicPr/>
          <p:nvPr/>
        </p:nvPicPr>
        <p:blipFill>
          <a:blip r:embed="rId4"/>
          <a:stretch/>
        </p:blipFill>
        <p:spPr>
          <a:xfrm>
            <a:off x="5219640" y="3125880"/>
            <a:ext cx="2448000" cy="40644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1" descr=""/>
          <p:cNvPicPr/>
          <p:nvPr/>
        </p:nvPicPr>
        <p:blipFill>
          <a:blip r:embed="rId5"/>
          <a:stretch/>
        </p:blipFill>
        <p:spPr>
          <a:xfrm>
            <a:off x="4932360" y="4235400"/>
            <a:ext cx="136836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1" descr=""/>
          <p:cNvPicPr/>
          <p:nvPr/>
        </p:nvPicPr>
        <p:blipFill>
          <a:blip r:embed="rId1"/>
          <a:stretch/>
        </p:blipFill>
        <p:spPr>
          <a:xfrm>
            <a:off x="228600" y="752400"/>
            <a:ext cx="8686800" cy="603900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2"/>
          <a:stretch/>
        </p:blipFill>
        <p:spPr>
          <a:xfrm>
            <a:off x="611280" y="2781360"/>
            <a:ext cx="503280" cy="40644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3"/>
          <a:stretch/>
        </p:blipFill>
        <p:spPr>
          <a:xfrm>
            <a:off x="611280" y="3789360"/>
            <a:ext cx="503280" cy="40644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4"/>
          <a:stretch/>
        </p:blipFill>
        <p:spPr>
          <a:xfrm>
            <a:off x="611280" y="4869000"/>
            <a:ext cx="503280" cy="40644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5"/>
          <a:stretch/>
        </p:blipFill>
        <p:spPr>
          <a:xfrm>
            <a:off x="611280" y="5877000"/>
            <a:ext cx="5032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图片 1" descr=""/>
          <p:cNvPicPr/>
          <p:nvPr/>
        </p:nvPicPr>
        <p:blipFill>
          <a:blip r:embed="rId1"/>
          <a:stretch/>
        </p:blipFill>
        <p:spPr>
          <a:xfrm>
            <a:off x="380880" y="852480"/>
            <a:ext cx="8382240" cy="515304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2"/>
          <a:stretch/>
        </p:blipFill>
        <p:spPr>
          <a:xfrm>
            <a:off x="826920" y="907920"/>
            <a:ext cx="503280" cy="40644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3"/>
          <a:stretch/>
        </p:blipFill>
        <p:spPr>
          <a:xfrm>
            <a:off x="755640" y="1413000"/>
            <a:ext cx="503280" cy="40644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4"/>
          <a:stretch/>
        </p:blipFill>
        <p:spPr>
          <a:xfrm>
            <a:off x="826920" y="2421000"/>
            <a:ext cx="503280" cy="40644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5"/>
          <a:stretch/>
        </p:blipFill>
        <p:spPr>
          <a:xfrm>
            <a:off x="826920" y="3500280"/>
            <a:ext cx="503280" cy="40644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6"/>
          <a:stretch/>
        </p:blipFill>
        <p:spPr>
          <a:xfrm>
            <a:off x="826920" y="4508640"/>
            <a:ext cx="503280" cy="40644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7"/>
          <a:stretch/>
        </p:blipFill>
        <p:spPr>
          <a:xfrm>
            <a:off x="826920" y="5013360"/>
            <a:ext cx="5032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图片 1" descr=""/>
          <p:cNvPicPr/>
          <p:nvPr/>
        </p:nvPicPr>
        <p:blipFill>
          <a:blip r:embed="rId1"/>
          <a:stretch/>
        </p:blipFill>
        <p:spPr>
          <a:xfrm>
            <a:off x="204840" y="687240"/>
            <a:ext cx="873288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1" descr=""/>
          <p:cNvPicPr/>
          <p:nvPr/>
        </p:nvPicPr>
        <p:blipFill>
          <a:blip r:embed="rId1"/>
          <a:stretch/>
        </p:blipFill>
        <p:spPr>
          <a:xfrm>
            <a:off x="771480" y="1368360"/>
            <a:ext cx="8058240" cy="1457280"/>
          </a:xfrm>
          <a:prstGeom prst="rect">
            <a:avLst/>
          </a:prstGeom>
          <a:ln w="0">
            <a:noFill/>
          </a:ln>
        </p:spPr>
      </p:pic>
      <p:pic>
        <p:nvPicPr>
          <p:cNvPr id="1122" name="图片 3" descr=""/>
          <p:cNvPicPr/>
          <p:nvPr/>
        </p:nvPicPr>
        <p:blipFill>
          <a:blip r:embed="rId2"/>
          <a:stretch/>
        </p:blipFill>
        <p:spPr>
          <a:xfrm>
            <a:off x="176040" y="2906640"/>
            <a:ext cx="879012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3" name="图片 1" descr=""/>
          <p:cNvPicPr/>
          <p:nvPr/>
        </p:nvPicPr>
        <p:blipFill>
          <a:blip r:embed="rId1"/>
          <a:stretch/>
        </p:blipFill>
        <p:spPr>
          <a:xfrm>
            <a:off x="195120" y="1366920"/>
            <a:ext cx="8751960" cy="412416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503280" cy="40644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3"/>
          <a:stretch/>
        </p:blipFill>
        <p:spPr>
          <a:xfrm>
            <a:off x="539640" y="3429000"/>
            <a:ext cx="5032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图片 1" descr=""/>
          <p:cNvPicPr/>
          <p:nvPr/>
        </p:nvPicPr>
        <p:blipFill>
          <a:blip r:embed="rId1"/>
          <a:stretch/>
        </p:blipFill>
        <p:spPr>
          <a:xfrm>
            <a:off x="314280" y="1633680"/>
            <a:ext cx="8515440" cy="359064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502920" cy="40644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3"/>
          <a:stretch/>
        </p:blipFill>
        <p:spPr>
          <a:xfrm>
            <a:off x="684360" y="4221000"/>
            <a:ext cx="5029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图片 1" descr=""/>
          <p:cNvPicPr/>
          <p:nvPr/>
        </p:nvPicPr>
        <p:blipFill>
          <a:blip r:embed="rId1"/>
          <a:stretch/>
        </p:blipFill>
        <p:spPr>
          <a:xfrm>
            <a:off x="228600" y="1914480"/>
            <a:ext cx="8686800" cy="302904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2"/>
          <a:stretch/>
        </p:blipFill>
        <p:spPr>
          <a:xfrm>
            <a:off x="684360" y="1916280"/>
            <a:ext cx="502920" cy="40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44:24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